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A30B9F35-A63E-45DF-BA01-82734FA1E580}"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74493B5C-A013-4D6F-9063-D4C4494738E9}"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F681F6D3-7C7E-44C3-9345-7B3D207720D2}"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424C1DDD-8FCB-4BB4-9068-D48CEF1F4A6B}"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911459DB-43BB-4E24-8EA0-C6E9DA1AF0FE}"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3DB17D2F-ECA3-4FEE-AEB8-C117096F72C1}"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4A2760F5-5B3B-4047-8104-338FF2ECFB35}"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31AF36CC-8880-43B6-93F6-49B75C023C42}"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A1545904-8EDB-4542-B8C3-091A23ED6642}"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384B5F3E-EF91-4078-A2C7-6089C09F30CE}"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D3420FFE-391E-49D5-B86D-AA4D97323096}"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478062D5-412D-4A8C-98C7-3AC497C36F12}"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2421ADA7-2F75-4938-BEE9-377F13325E29}"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61CB3CD3-0D65-42A9-AF53-13E875337180}"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D3C6023E-80EA-4B18-9F3F-09EB5222379E}"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E0159753-E0C7-4F40-8614-A78F730465D6}"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7283B651-192E-45A2-87B3-DFF0610DFB95}"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225AB537-D2E1-4B5C-BC6A-4238163C8F31}"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C0A0CF2-A212-452B-AE9B-2E0499148A88}"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506EBB0-8CF1-4EB2-971D-74893A641FFD}"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36E2BB90-5159-46B4-BDB2-EE7BD507316D}"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DD5E7D1C-E26A-465B-ADCB-087CD7DAB56F}"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9D7B49AB-B341-43B0-AE1D-7FEC46DA3408}"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50C6EF78-F6ED-47BF-B627-59606FBCF850}"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6AA802A8-968F-4733-9F7F-D121DC7872D9}"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3C135D3-7BC2-41AB-B5D2-DF2DF4E3EB7D}"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151C6971-D7F9-4CFD-9EC9-79D8E57E0453}"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32FAB5C-9061-49A7-A0A7-0A49699C6AB1}"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1220206-04E4-4734-9E6B-570798C32195}"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A50BDE-9DE7-4218-A9AD-3CB9E34A0A44}"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B070CEC-CBDE-4618-9CAC-B6C0FE305D73}"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3FB8FC6B-F862-4DF7-976B-33CAA92F3F6A}"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024121E-F2E3-4C3D-8DA8-C996B4BA5CDA}"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4C6D4B7C-A775-4B00-9777-587954B25B47}"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30CC6FA-EA7A-4095-B950-AD0FD9D25254}"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DB59DD9-4052-498F-844B-BD41B652C28F}"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BD5006C-C707-46A3-BD28-F099468543C8}"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9FAA6AD-5C78-42EC-A0E3-6A4190772D22}"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1531E98-DCCD-4AB7-AADD-1675117BD745}"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22DB05C-8F7F-4586-886E-26ACCC0F219A}"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8079C8DB-5077-46B7-8308-30511AE34B07}"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AB616EF-5121-40B4-9E86-4CAC97E4154B}"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D4D39ACC-77C3-4239-B214-80271F8432B1}"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9E41844-D64A-4173-A9DF-0ECAF2895F9E}"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6D81F39-5D48-4E71-ACB7-7F79BAC75A43}"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9161750-3C8F-49AF-86B8-79E74C69B656}"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B7B3AB1-9BCD-4618-A8D1-78812477B36A}"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4FD0A9C0-1454-427B-B61F-CEB726CADEAB}"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467B0BD-C305-4A26-9CE6-033736A371E9}"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28D113B6-A696-43D1-AA4B-F4E44DE4D853}"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14DC4FA4-E9CA-46C2-AE03-AF64670DE847}"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